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DEBA-3547-4265-B704-A763249D393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кита в му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ведут нас три ки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D2B6-0B2C-46E5-99A0-DD63ABC645F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с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сня приведёт нас в оп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 – музыкальный спектакль, где артисты по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ют  в опере: солисты, хор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FE04-6A06-490D-BCDF-33344AEFEE9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ец приведёт нас в ба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ет – это музыкальный спектакль, где артисты танц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участвуют танцоры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7101-A468-420C-A92B-C172943000C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ец приведёт нас в оп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 – это музыкальный спектакль, где артисты по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участвуют солисты, хор, оркестр.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A09B-9979-4860-BE8B-29AEE1BDC8B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ш приведёт нас в симфо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фония – это крупное музыкальное произведение в 4-х частях для симфонического орке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A934-0843-489C-96C2-FE3700D4BFE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ш приведёт нас в ба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ет – это музыкальный спектакль, где артисты танц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участвуют танцоры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1218-31C4-470F-8AD6-2E3589FFB75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Три кита встречаются в симфонии, опере и бале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мфонии песни, которые никто не поёт, танцы, которые никто не танцует, марши, которые никто не марширу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танцы танцуют, под марши маршируют, песни почти никогда не по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песни всегда поют, танцы танцуют, под марши маршир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913D-07A0-4F21-B2F4-2EA6981D615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F35-DC99-4C71-BB92-D46950DF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885-2379-4206-A264-53114545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73D1-0FF0-49C6-97CA-C56AEDC7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304-C212-4F21-A597-5B497DA3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95BD-E3B5-47E8-8FA1-DEC4CFF6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6DFA-DB3E-45B3-B34D-8C77F7D3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F53E-3E03-4352-92F5-C8773C38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51E3-5254-43A4-918E-C841AA00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F548-9057-4AFE-900B-08292AD0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B3FF-1242-4364-AB87-4A6A870A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F76E-FAE2-40A7-B6D9-5F01DD8D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4121-C130-4C33-844A-F4D41C48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A922-2FDA-4BB3-8CBC-7961ED9C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063C-47C1-46F0-80E7-6F6D2A70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51E2-2763-497E-A4D9-2B6C605D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2BEB-636B-4078-9687-3EE00DCB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F440-8B66-4573-91A9-63740E12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0F2-67FE-4109-866D-7068F2C1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734A-642C-4898-BDAD-1FD873FB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43C-E353-490D-B192-AE77F621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998E-DEAC-449C-823A-8DD0794A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4F8-BBFF-4417-8619-896297B3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3FCD-677F-4F04-866D-82F021AA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770F-DC66-421B-8118-FAA1863B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07D7-C3D1-4235-8CDC-699D028DF5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BC75-69D3-44DC-ABBC-2E9691042C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ри кита в музык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уда ведут нас три кит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5" descr="image13931[1]"/>
          <p:cNvPicPr/>
          <p:nvPr/>
        </p:nvPicPr>
        <p:blipFill>
          <a:blip r:embed="rId1"/>
          <a:stretch/>
        </p:blipFill>
        <p:spPr>
          <a:xfrm>
            <a:off x="324000" y="4797360"/>
            <a:ext cx="2958840" cy="1727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HK4O4CAJA90U3CA7ORIBUCAJEC4MACATJYVERCACG9JZACAFX88KOCABAHM4BCA454TE8CAT9R9NUCAELL8BWCAC6NMQZCA4LL6BLCAYNCAGNCA1XDXYBCAVSOCQOCASC4IV5CAFXC7TACAQ9O1D9CA6O9BHU"/>
          <p:cNvPicPr/>
          <p:nvPr/>
        </p:nvPicPr>
        <p:blipFill>
          <a:blip r:embed="rId2"/>
          <a:stretch/>
        </p:blipFill>
        <p:spPr>
          <a:xfrm>
            <a:off x="7236000" y="189000"/>
            <a:ext cx="1625400" cy="1333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есн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сня приведёт нас в опер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ера – музыкальный спектакль, где артисты поют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аствуют  в опере: солисты, хор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4" descr="O8IA7CAKY0U00CAEB6JVUCAVDUIZVCAW44JAQCAP06QA3CAXCRHRMCATPFEA7CAKVT987CAJ8EXTQCAGU9AP0CAPLCW11CAQRXLSVCA2OFITBCAKAQ2NKCAVC1Y0MCA0H3SISCAHBOA3GCA7L2FUTCA3XPR15"/>
          <p:cNvPicPr/>
          <p:nvPr/>
        </p:nvPicPr>
        <p:blipFill>
          <a:blip r:embed="rId1"/>
          <a:stretch/>
        </p:blipFill>
        <p:spPr>
          <a:xfrm>
            <a:off x="5651640" y="4508640"/>
            <a:ext cx="2449440" cy="10825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нец приведёт нас в ба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лет – это музыкальный спектакль, где артисты танцу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балете участвуют танцоры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is"/>
          <p:cNvPicPr/>
          <p:nvPr/>
        </p:nvPicPr>
        <p:blipFill>
          <a:blip r:embed="rId1"/>
          <a:stretch/>
        </p:blipFill>
        <p:spPr>
          <a:xfrm>
            <a:off x="6156360" y="4724280"/>
            <a:ext cx="1871640" cy="1368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нец приведёт нас в опер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ера – это музыкальный спектакль, где артисты по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опере участвуют солисты, хор, оркестр.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рш приведёт нас в симфо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имфония – это крупное музыкальное произведение в 4-х частях для симфонического оркестр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рш приведёт нас в ба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лет – это музыкальный спектакль, где артисты танцу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балете участвуют танцоры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W2P2GCAS6F0URCA7MR1A7CAZRBEEBCADE8MN6CAKBF2TICASO0QQHCA9JO6XLCAH0J64KCA2FIG7QCATWWAJOCAZ6XXQRCAHH0AHCCAERI183CA283P3OCAFVTQSJCA94YC3TCAXTE3JQCAM8G71UCARZU2RN"/>
          <p:cNvPicPr/>
          <p:nvPr/>
        </p:nvPicPr>
        <p:blipFill>
          <a:blip r:embed="rId1"/>
          <a:stretch/>
        </p:blipFill>
        <p:spPr>
          <a:xfrm>
            <a:off x="5724360" y="4869000"/>
            <a:ext cx="1170000" cy="1170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50888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Три кита встречаются в симфонии, опере и бале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симфонии песни, которые никто не поёт, танцы, которые никто не танцует, марши, которые никто не маршируе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балете танцы танцуют, под марши маршируют, песни почти никогда не пою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опере песни всегда поют, танцы танцуют, под марши марширую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i[3]"/>
          <p:cNvPicPr/>
          <p:nvPr/>
        </p:nvPicPr>
        <p:blipFill>
          <a:blip r:embed="rId1"/>
          <a:stretch/>
        </p:blipFill>
        <p:spPr>
          <a:xfrm>
            <a:off x="6732720" y="5013360"/>
            <a:ext cx="1655640" cy="12952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5:46:44Z</dcterms:created>
  <dc:creator>11</dc:creator>
  <dc:description/>
  <dc:language>en-US</dc:language>
  <cp:lastModifiedBy>LEGION</cp:lastModifiedBy>
  <dcterms:modified xsi:type="dcterms:W3CDTF">2015-04-02T07:02:41Z</dcterms:modified>
  <cp:revision>6</cp:revision>
  <dc:subject/>
  <dc:title>Три кита в музыке</dc:title>
</cp:coreProperties>
</file>